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087-7EA0-4348-BE91-55BE08AC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F28-B0F9-4A94-824A-DA1A7729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3C3-1690-4A9E-851B-3D9265BB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1EB-58E7-4319-81C7-3FB55D40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587-5A7E-41B4-AB90-301D01FD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117-4ED6-47E9-A259-F5D1F383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9C6-877F-4AEE-81A5-AA76198F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FBF-D1E9-43B0-949B-55A413BF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C32-D4BD-4FE4-824C-EBE30664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913-D191-49AE-BA81-ECF5FC4A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A52-D3A9-4C3F-BD3D-A751F61F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C16-278F-4B06-B9D3-7AB720B3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336FA-4C5B-46CD-B24E-9C6A48C44D94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652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8840" y="4859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ritz &amp; T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467160" cy="404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836720" y="587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nssdc.gsfc.nasa.gov/image/planetary/jupiter/jupiter_io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llgeme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360" y="159552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Mas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,899 · 10^27 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eigung Rotationsachse: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3,13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derische Umlaufzeit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1,86 Jah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mperatur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a. -108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chte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,326 g/cm³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urchmesser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~143.000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2328840"/>
            <a:ext cx="52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www.grundschule-im-taunusviertel.de/ordner/schuelerseiten/wissen_und_projekte/unser_sonnensystem-Dateien/sonnensyste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0"/>
            <a:ext cx="49147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ufb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asr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ster K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lüss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tallis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sserst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mosphä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80000" y="1557360"/>
            <a:ext cx="4321080" cy="322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51280" y="4797360"/>
            <a:ext cx="41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abenteuer-universum.de/plan/jupiter8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nde &amp; Ring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 R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oss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63 M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 großen galileischen M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kleine zum Teil nicht benan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39625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3789360"/>
            <a:ext cx="395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789360"/>
            <a:ext cx="722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upload.wikimedia.org/wikipedia/</a:t>
            </a:r>
            <a:br>
              <a:rPr sz="1000"/>
            </a:b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commons/thumb/2/29/PIA01627_Ringe.jpg/480px-PIA01627_Ring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sondere Merk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oßer roter Fl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hr starkes Magnetf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2264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198900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www.spiegel.de/images/image-69658-videopanoplayer-abc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291360"/>
            <a:ext cx="4340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http://www.stass.de/alex/astro/grafiken/jupiter_magnetfeld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08:23Z</dcterms:created>
  <dc:creator>muster</dc:creator>
  <dc:description/>
  <dc:language>en-US</dc:language>
  <cp:lastModifiedBy>muster</cp:lastModifiedBy>
  <dcterms:modified xsi:type="dcterms:W3CDTF">2011-11-09T13:51:51Z</dcterms:modified>
  <cp:revision>7</cp:revision>
  <dc:subject/>
  <dc:title>Jupiter</dc:title>
</cp:coreProperties>
</file>